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71B-89EF-49E0-B420-5E258233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6F2-EE84-4F41-9994-5D262807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A42-757C-48C2-A526-6CBA26B1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87A-5E49-4DFB-A834-754A3395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FBD-8679-448C-975D-2222193B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D93-E768-4073-823F-C757FD89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904-9FBD-4193-8F4E-D0EA91D2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55A-447F-416B-9E82-83EC7A8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3DF-AB6F-4055-B158-8A148B76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0D1-7464-4FF9-A9EB-AA52AF58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177-78CC-4E56-8D35-4A8CF3D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DDE-C8B5-4F30-A2D8-B049F44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7045-158E-44AC-9BEF-C4323603C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600520" cy="393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35640" y="1197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ase I and Teloph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2205000"/>
            <a:ext cx="208944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6372000" y="1628640"/>
            <a:ext cx="43164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189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5661000"/>
            <a:ext cx="54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anselm.edu/homepage/jpitocch/genbio/meiosisphas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ase I begins when the two homologous chromosomes of each bivalent separate and start moving toward opposite poles of the cell as a result of the action of the spindl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in anaphase I the sister chromatids remain attached at their centromeres and move together toward the poles. This is the key difference between mitosis and meiosis after the first meta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256360" cy="252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19280" y="4724280"/>
            <a:ext cx="61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phschool.com/science/biology_place/biocoach/meiosis/anai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l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elophase I a haploid set of chromosomes is at each pole, with each chromosome still having two chromatids. A nuclear envelope reforms around each chromosome set, the spindle disappears, and cytokinesis foll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cells that undergo rapid meiosis do not decondense the chromosomes at the end of telophase I and move on to meiosis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4896000" cy="2349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92360" y="5084640"/>
            <a:ext cx="61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phschool.com/science/biology_place/biocoach/meiosis/anai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8:44:46Z</dcterms:created>
  <dc:creator>Your User Name</dc:creator>
  <dc:description/>
  <dc:language>en-US</dc:language>
  <cp:lastModifiedBy>Your User Name</cp:lastModifiedBy>
  <dcterms:modified xsi:type="dcterms:W3CDTF">2007-10-08T09:05:32Z</dcterms:modified>
  <cp:revision>3</cp:revision>
  <dc:subject/>
  <dc:title>Slide 1</dc:title>
</cp:coreProperties>
</file>